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A699-703A-4DB9-9CDE-A2A19273866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01AA-343C-49DB-A1A3-1C09CCA92EA8}"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9922-8AB7-4D06-A209-7A1CB7FCC2B8}"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8-03-22T09:10:11Z</dcterms:modified>
  <cp:revision>21</cp:revision>
  <dc:subject/>
  <dc:title>Claudius Ptolemy</dc:title>
</cp:coreProperties>
</file>